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  <p:custShowLst>
    <p:custShow name="Nowy niestandardowy pokaz slajd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AC9-63AE-4A83-8FAD-DBBE1F69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B79-14C1-4B84-BD5C-EBFE8C53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F37-6A9F-487B-AA90-E3D944BC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FF3-275C-4026-B71D-63808EF9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229-E10D-4C8D-9418-F48B8D1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443-A282-44F1-A6D9-61FCD534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878-D2E6-4802-B4EE-CE7830D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218-83AA-4BE9-A78F-37E64D5D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3BD-13F5-4103-B0FE-528D721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692-C34D-49B2-A5AD-3E84CAE7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638-5A5D-4FCE-9635-623E010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933-60C3-4716-8A1E-60F1BE8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6935F-4558-4BE5-B416-7DA36FEBA17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jście W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iększe stanowiska lęgowe ptaków i przelo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rzyp bagi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ęś gęg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79640" y="399888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elkopol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4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ziora polodowc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walia dwu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60720" y="4038480"/>
            <a:ext cx="37796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igier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080" y="240984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8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zecze rzeki Czarna Hańcza i dopływ Niem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iczka okrągłolist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ó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0200" y="4119480"/>
            <a:ext cx="361944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ol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37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rzeże klifow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itnik zwyczajn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08160" y="4140360"/>
            <a:ext cx="38322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/>
  <dcterms:modified xsi:type="dcterms:W3CDTF">2010-05-18T17:25:08Z</dcterms:modified>
  <cp:revision>15</cp:revision>
  <dc:subject/>
  <dc:title/>
</cp:coreProperties>
</file>